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8.wmf" ContentType="image/x-wmf"/>
  <Override PartName="/ppt/media/image30.png" ContentType="image/png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6.wmf" ContentType="image/x-wmf"/>
  <Override PartName="/ppt/media/image9.wmf" ContentType="image/x-wmf"/>
  <Override PartName="/ppt/media/image39.wmf" ContentType="image/x-wmf"/>
  <Override PartName="/ppt/media/image13.wmf" ContentType="image/x-wmf"/>
  <Override PartName="/ppt/media/image2.gif" ContentType="image/gif"/>
  <Override PartName="/ppt/media/image41.wmf" ContentType="image/x-wmf"/>
  <Override PartName="/ppt/media/image38.png" ContentType="image/png"/>
  <Override PartName="/ppt/media/image42.wmf" ContentType="image/x-wmf"/>
  <Override PartName="/ppt/media/image32.png" ContentType="image/png"/>
  <Override PartName="/ppt/media/image43.wmf" ContentType="image/x-wmf"/>
  <Override PartName="/ppt/media/image44.png" ContentType="image/png"/>
  <Override PartName="/ppt/media/image4.wmf" ContentType="image/x-wmf"/>
  <Override PartName="/ppt/media/image27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51.wmf" ContentType="image/x-wmf"/>
  <Override PartName="/ppt/media/image40.png" ContentType="image/png"/>
  <Override PartName="/ppt/media/image8.wmf" ContentType="image/x-wmf"/>
  <Override PartName="/ppt/media/image48.wmf" ContentType="image/x-wmf"/>
  <Override PartName="/ppt/media/image11.wmf" ContentType="image/x-wmf"/>
  <Override PartName="/ppt/media/image50.png" ContentType="image/png"/>
  <Override PartName="/ppt/media/image3.wmf" ContentType="image/x-wmf"/>
  <Override PartName="/ppt/media/image33.wmf" ContentType="image/x-wmf"/>
  <Override PartName="/ppt/media/image37.wmf" ContentType="image/x-wmf"/>
  <Override PartName="/ppt/media/image7.wmf" ContentType="image/x-wmf"/>
  <Override PartName="/ppt/media/image49.png" ContentType="image/png"/>
  <Override PartName="/ppt/media/image12.png" ContentType="image/png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0D6C-5611-49C3-B21C-2D64500E3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1171-C6C9-4CEA-AAE1-835A1AE20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A1D1-6369-4D7B-A696-B20E6D317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A940-4781-413A-899E-B601D5B87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6B35-04DC-4C4B-BFF8-CCF249077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5A46-6B43-4023-A217-FA24044B1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7DB7-7E48-4DDD-A8A0-D1926617A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69B9-9597-4E83-99AE-84930F32C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4F5E-FA2D-44FE-B7B8-B0A659DEA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1DD7-5F2D-47F6-BE50-2B6332942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8A7C-ABD9-4997-BE7F-449230C66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0E35-180F-491B-BF9F-B5FCF3D69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6D40-6FF7-47A5-A818-4A87CFFDC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0C1F-3FD8-4D06-9FE5-4B794C8A4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378F-F93F-4D80-8DE5-21AF85277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D0DE-D777-48BF-8182-D19539EF2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DC3B-C1B9-45EC-BE4B-7BB4E987B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A215-2586-46B5-8D8F-1E4CD00CB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A301-9749-464C-BDCD-D6EE11255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00ED-0BDE-4C5A-ACA6-226AF8963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B9DD-289D-4C7B-A96B-54E79EE58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A338-76C0-4B45-81F1-3ED02DB00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125D-2726-42A5-B0A1-7785E7083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4383-37AE-4FCB-AF14-A73CC7EEA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2962-B513-46B4-B5C9-5ADAAA1DE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9F7B-C3FD-483D-907E-F6CFB0F57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B8CC-55D2-423A-B4AC-BEB03430D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5BB1-631E-4CA6-9A47-2406616A6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1D4B-5AEC-47D7-86D2-32110BB24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BB5D-9490-4564-B29A-4D04A98F1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FC38-91F5-48BF-B405-08D510770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0A3F-E265-443B-9F80-F43169987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54BC-6AD0-47E2-ABAC-F3863B560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1EF0-D3B6-4BEF-9B7D-3ED8B1080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4124-44D1-49A2-AF0A-CA0E06066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0B05-2E44-4CCF-81B9-5CC3268AF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2100-59DE-451D-88F3-A4C76350F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8ADF-C032-4DF8-A536-FD71BB42B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689F-F445-498F-8E2C-09B1FAABE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5394-EF6A-4412-87B4-0851B0324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89F1-0788-4A7F-B101-83C77FE4C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E8A1-F364-4BD1-99FA-9B8DB2A9A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12EC-5A43-4A31-97BA-9BCBFC265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D73A-BE7E-445B-A7C6-57483E3AC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4E6E-DD59-41A9-A6A1-FB9B5842B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9D3F-5EB7-4913-8F0C-D581CF9BA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35BF-26DC-4F97-AFD7-3A4E0F654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3C1D-6CB9-465E-9781-075A18819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CDA-30E1-4E42-9D24-D8F1F998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6E9-5002-42FA-BB44-3E6B400D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F717-CE06-4803-B4BA-D8806D76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63A-AB73-4079-90F2-F3EAF0CA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DE4-3FAD-4D70-A15D-4440048A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5F37-4D04-49BC-90CC-65AA6695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95CB-1B01-4CAC-AFB0-E1098A69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697-1B08-4420-8C57-211244BF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AB5-17D6-4C4D-B797-0E5753C2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F65-66BD-4AC6-A57E-2C1E6D78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FCF-C93A-407A-B462-1585A8A8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355-B4A6-4658-B326-414892F3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6E68-4BA5-47A3-9BFF-1D56DCD1B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wmf"/><Relationship Id="rId3" Type="http://schemas.openxmlformats.org/officeDocument/2006/relationships/image" Target="../media/image27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2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9.wmf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8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0.png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914400" y="914400"/>
            <a:ext cx="601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Are You Smarter Than a 5th Grader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AG00327_"/>
          <p:cNvPicPr/>
          <p:nvPr/>
        </p:nvPicPr>
        <p:blipFill>
          <a:blip r:embed="rId2"/>
          <a:stretch/>
        </p:blipFill>
        <p:spPr>
          <a:xfrm>
            <a:off x="5334120" y="380988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MCj02376190000[1]"/>
          <p:cNvPicPr/>
          <p:nvPr/>
        </p:nvPicPr>
        <p:blipFill>
          <a:blip r:embed="rId3"/>
          <a:stretch/>
        </p:blipFill>
        <p:spPr>
          <a:xfrm>
            <a:off x="2895480" y="3581280"/>
            <a:ext cx="1452600" cy="2421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5260320" y="57150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rs. Kee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2590920" y="762120"/>
            <a:ext cx="3112920" cy="3085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3192840" y="4637160"/>
            <a:ext cx="232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0.2417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2286000" y="838080"/>
            <a:ext cx="363060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2286000" y="838080"/>
            <a:ext cx="3630600" cy="2624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858680" y="4419720"/>
            <a:ext cx="534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1.7908 &lt; 1.879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2895480" y="838080"/>
            <a:ext cx="24498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2895480" y="838080"/>
            <a:ext cx="2449800" cy="2676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3101400" y="4191120"/>
            <a:ext cx="212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24.48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2590920" y="609480"/>
            <a:ext cx="3581280" cy="297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609480" y="4191120"/>
            <a:ext cx="1886040" cy="162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2590920" y="4191120"/>
            <a:ext cx="1944720" cy="1670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4648320" y="4191120"/>
            <a:ext cx="1885680" cy="167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6"/>
          <a:stretch/>
        </p:blipFill>
        <p:spPr>
          <a:xfrm>
            <a:off x="6629400" y="4191120"/>
            <a:ext cx="188604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2590920" y="609480"/>
            <a:ext cx="3581280" cy="297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3352680" y="4191120"/>
            <a:ext cx="1944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2133720" y="914400"/>
            <a:ext cx="480060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2133720" y="914400"/>
            <a:ext cx="4800600" cy="3411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523680" y="4876920"/>
            <a:ext cx="11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1/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752480" y="1066680"/>
            <a:ext cx="53247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124440" y="1219320"/>
            <a:ext cx="266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ath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MCj01887110000[1]"/>
          <p:cNvPicPr/>
          <p:nvPr/>
        </p:nvPicPr>
        <p:blipFill>
          <a:blip r:embed="rId2"/>
          <a:stretch/>
        </p:blipFill>
        <p:spPr>
          <a:xfrm>
            <a:off x="3505320" y="2819520"/>
            <a:ext cx="217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752480" y="1066680"/>
            <a:ext cx="5324760" cy="2327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962800" y="4264200"/>
            <a:ext cx="369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4 ounce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315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315200" cy="2514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1293480" y="4343400"/>
            <a:ext cx="639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7 hours and 29 minu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1752480" y="685800"/>
            <a:ext cx="5329440" cy="453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838080" y="2286000"/>
            <a:ext cx="2347920" cy="3154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4876920" y="1523880"/>
            <a:ext cx="2692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2819520" y="3276720"/>
            <a:ext cx="2622600" cy="277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1752480" y="685800"/>
            <a:ext cx="532944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1752480" y="914400"/>
            <a:ext cx="5334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752480" y="457200"/>
            <a:ext cx="5334120" cy="2692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009800" y="5486400"/>
            <a:ext cx="69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intersects the center of the circ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1447920" y="0"/>
            <a:ext cx="6321240" cy="223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1676520" y="2209680"/>
            <a:ext cx="5630760" cy="44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4"/>
          <a:stretch/>
        </p:blipFill>
        <p:spPr>
          <a:xfrm>
            <a:off x="4800600" y="2666880"/>
            <a:ext cx="3498840" cy="180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5"/>
          <a:stretch/>
        </p:blipFill>
        <p:spPr>
          <a:xfrm>
            <a:off x="533520" y="4495680"/>
            <a:ext cx="3728880" cy="1871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6"/>
          <a:stretch/>
        </p:blipFill>
        <p:spPr>
          <a:xfrm>
            <a:off x="4800600" y="4572000"/>
            <a:ext cx="3557520" cy="1871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7"/>
          <a:stretch/>
        </p:blipFill>
        <p:spPr>
          <a:xfrm>
            <a:off x="609480" y="2666880"/>
            <a:ext cx="361476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6321240" cy="223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3728880" cy="1871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4"/>
          <a:stretch/>
        </p:blipFill>
        <p:spPr>
          <a:xfrm>
            <a:off x="1447920" y="2971800"/>
            <a:ext cx="563076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2438280" y="304920"/>
            <a:ext cx="3845160" cy="397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3"/>
          <a:stretch/>
        </p:blipFill>
        <p:spPr>
          <a:xfrm>
            <a:off x="1219320" y="4419720"/>
            <a:ext cx="67816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3464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62499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2666880" y="609480"/>
            <a:ext cx="3845160" cy="39751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2786040" y="5105520"/>
            <a:ext cx="395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40 student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2438280" y="685800"/>
            <a:ext cx="3845160" cy="237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609480" y="3429000"/>
            <a:ext cx="7667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2438280" y="685800"/>
            <a:ext cx="3845160" cy="2376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2017440" y="4124160"/>
            <a:ext cx="549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9 is the mean or aver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2743200" y="609480"/>
            <a:ext cx="3268800" cy="1684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3"/>
          <a:stretch/>
        </p:blipFill>
        <p:spPr>
          <a:xfrm>
            <a:off x="2133720" y="2362320"/>
            <a:ext cx="4708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2209680" y="685800"/>
            <a:ext cx="4708800" cy="3959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2209680" y="4952880"/>
            <a:ext cx="45943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1676520" y="685800"/>
            <a:ext cx="5227560" cy="2433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3"/>
          <a:stretch/>
        </p:blipFill>
        <p:spPr>
          <a:xfrm>
            <a:off x="1905120" y="3581280"/>
            <a:ext cx="48243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1676520" y="685800"/>
            <a:ext cx="5227560" cy="2433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3421440" y="4108320"/>
            <a:ext cx="133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3/8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1905120" y="457200"/>
            <a:ext cx="4305240" cy="1743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3"/>
          <a:stretch/>
        </p:blipFill>
        <p:spPr>
          <a:xfrm>
            <a:off x="1981080" y="2209680"/>
            <a:ext cx="4535640" cy="849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609480" y="3276720"/>
            <a:ext cx="3672000" cy="1065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5"/>
          <a:stretch/>
        </p:blipFill>
        <p:spPr>
          <a:xfrm>
            <a:off x="609480" y="4495680"/>
            <a:ext cx="2692440" cy="1757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6"/>
          <a:stretch/>
        </p:blipFill>
        <p:spPr>
          <a:xfrm>
            <a:off x="4724280" y="3124080"/>
            <a:ext cx="3384720" cy="1195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7"/>
          <a:stretch/>
        </p:blipFill>
        <p:spPr>
          <a:xfrm>
            <a:off x="5181480" y="4351320"/>
            <a:ext cx="2578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1981080" y="1143000"/>
            <a:ext cx="4305600" cy="1743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3"/>
          <a:stretch/>
        </p:blipFill>
        <p:spPr>
          <a:xfrm>
            <a:off x="2971800" y="3200400"/>
            <a:ext cx="257796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67244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2727360" y="250020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6249960" cy="2305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2512800" y="4191120"/>
            <a:ext cx="405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About 5,000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6724440" cy="1743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3"/>
          <a:stretch/>
        </p:blipFill>
        <p:spPr>
          <a:xfrm>
            <a:off x="2666880" y="3886200"/>
            <a:ext cx="294012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1181160" y="1389240"/>
            <a:ext cx="678168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3657600" y="5029200"/>
            <a:ext cx="1519200" cy="106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678168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7905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678240" y="838080"/>
            <a:ext cx="750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-5 =  could be solved with this sentenc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odd is 5 years younger than Amelia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f A is Amelia’s age in years, how old 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od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2"/>
          <a:stretch/>
        </p:blipFill>
        <p:spPr>
          <a:xfrm>
            <a:off x="1523880" y="838080"/>
            <a:ext cx="5789880" cy="1873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769608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696440" cy="16840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3536280" y="40384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27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914400" y="914400"/>
            <a:ext cx="601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Are You Smarter Than a 5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  Grader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AG00327_"/>
          <p:cNvPicPr/>
          <p:nvPr/>
        </p:nvPicPr>
        <p:blipFill>
          <a:blip r:embed="rId2"/>
          <a:stretch/>
        </p:blipFill>
        <p:spPr>
          <a:xfrm>
            <a:off x="5334120" y="380988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MCj02376190000[1]"/>
          <p:cNvPicPr/>
          <p:nvPr/>
        </p:nvPicPr>
        <p:blipFill>
          <a:blip r:embed="rId3"/>
          <a:stretch/>
        </p:blipFill>
        <p:spPr>
          <a:xfrm>
            <a:off x="2895480" y="3581280"/>
            <a:ext cx="14526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1371600" y="838080"/>
            <a:ext cx="612288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371600" y="838080"/>
            <a:ext cx="6122880" cy="2168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2872800" y="3951360"/>
            <a:ext cx="246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9 x 13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7848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7848360" cy="1981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283560" y="3646440"/>
            <a:ext cx="114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2.3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2590920" y="762120"/>
            <a:ext cx="31129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4:02:04Z</dcterms:created>
  <dc:creator>ellbenegar</dc:creator>
  <dc:description/>
  <dc:language>en-US</dc:language>
  <cp:lastModifiedBy>LK</cp:lastModifiedBy>
  <dcterms:modified xsi:type="dcterms:W3CDTF">2011-02-24T13:20:05Z</dcterms:modified>
  <cp:revision>55</cp:revision>
  <dc:subject/>
  <dc:title>Slide 1</dc:title>
</cp:coreProperties>
</file>